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0AA-ADB4-49AE-91E0-1C4A6FA5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F7C-6B5B-48AE-BAA1-798F4BF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2D4-934D-4779-BABA-339D3EC0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F88-FBD0-4A5A-9944-F999D89D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AE7-DB2B-440E-97BF-ADA4C22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BA3-309B-416B-B872-58B6285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ADB-46F6-407A-BCD3-0B2EC77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BAD-AF6F-4210-B57D-1ACBA8A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AB5-AF7F-4060-903D-95929C5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F4A-B661-41D9-A0B8-0773C62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F1C-9552-421F-B207-F2322FB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553-7AB4-48B5-B030-C6114DE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66D-2AAA-44FD-83EF-CEA369E5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78880" y="64911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2AE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7764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RODUCTION TO READINES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conclusion of this lesson, you (the student) will be familiar with the Personnel Readiness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8915400" cy="68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vision (co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dict personnel requirements based on current strength levels, projected gains, estimated losses, and the projected number of Soldiers and Army civilians returning to duty from medical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critical skills, and formulate recommendations for shortage resolution or comp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sess new equipment and weapons systems' impact on personne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ort personnel requirements to the corps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division's force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d replacement allocation and priorities of fill to the division commander/division G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individual, squad, crew, or team replacements IAW the division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assignment fill plans to the replacement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3184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r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corps personnel readiness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ordinate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, consolidate, analyze, and report unit streng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the status of critical combat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corps hasty personnel strength repor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eive and consolidate personnel strength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are manual personnel strength information against the corps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reconciliation whenever discrepancies exist between manual personnel information and the corps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orps personnel str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duct readiness analysis, assess combat capabilities, and identify personnel requirements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ps (co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dict personnel requirements based on operating strength, required strength, estimated losses, projected replacements, and estimated number of Soldiers and Army civilians returning to duty from medical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and analyze critical skill inventories, and formulate recommendations for resolution or comp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and assess the personnel readiness impact of new equipment and weapon systems, and take action to satisfy personne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personnel portion of corps combat power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nd replacement priorities through the corps G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replacement priorities for the divisions to the theater P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individual, squad, crew, team, and return-to-duty corps replacements according to the corps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assignment fill plans to the DS replacement company for separate brigades and corps major subordinat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intra-corps reassignments to meet operation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358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a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theater personnel readiness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ater strength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theater Army commander on theater personnel read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btain and maintain readiness information on units deploying into the the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, record, analyze, and report unit strengths to determine personnel requirements and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pare and maintain preestablished SHELF requi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duct readiness analysis, assess combat capabilities, and identify personnel readiness requirements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dict personnel requirements based on assigned strength, estimated lossess, and the projected number of Soldiers and Army civilians returning to duty from medical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49320"/>
            <a:ext cx="914400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ater (co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and analyze critical skill inventories, and formulate recommendations for resolution or comp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termine personnel requirements that new-equipment fielding may gene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nd replacement priorities to the theater Army DCSOPS through the DCS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ecute approved replacement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velop theater distribution plans to allocate re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personnel replacements according to EAC/corps established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distribution fill plans to the GS replacement batta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replacements to corps/TAACOM and theater major subordinat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theater force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intra-theater reassignments to meet operation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33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ESS MANAGE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alysis of personnel strength data to determine combat capabilities and project future requirements in order to achieve and maintain the highest possible state of readiness/combat effective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84720"/>
            <a:ext cx="91440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: HUMAN RESOURCE SPECIALISTS AND S1'S MUST BE INVOLVED. THEY ARE THE DATA MANAGERS WHO MANAGE THE STRENGTH OF THEIR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: THE COLLECTION OF STATISTICAL DATA REFLECTING THE CURRENT AND PROJECTED STRENGTH OF A NIT/BN/BDE/CORPS/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: CONTINUOUSLY. USR'S ARE CONDUCTED EVERY MONTH. WHEN THE HUMAN RESOURCE SPECIALIST/S1 STAY CURRENT WITH UNIT STRENGTH, THEY CAN ACCURATELY REPORT THE READINESS/STRENGTH DATA FOR THEIR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91440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 MANAGEMENT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: READINESS/STRENGTH MANAGEMENT OCCURS AT UNIT LEVEL ALL THE WAY UP TO AND INCLUDING ARMY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: WITH ACCURATE AND TIMELY READINESS/STRENGTH MANAGEMENT, THE ARMY'S END STRENGTH (REQUIRED/AUTHORIZED) CAN BE MET, THUS ENSURING UNITS RECEIVE THEIR FAIR SHARE OF REPLACEMENT PERSONNEL AND ARE MAINTAINED AT OPERATIONAL STR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: EACH UNIT/BN/BDE/DIV/ETC PREPARES READINESS REPORTS AND FORWARDS THEIR INPUT TO THEIR NEXT HIGHER HEADQUARTERS, WHO IN TURN REPORTS IT TO THE ARM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3240"/>
            <a:ext cx="807732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zed Level of Organization (AL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quired MTOE 10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9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8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7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6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5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4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3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2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1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ion, none of the above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aken from Para. 2-20b, AR 310-49 Slide 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28120"/>
            <a:ext cx="8452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INESS MANAGEMENT AREAS OF E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ERSONNEL REQUIREMENT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ERSONNEL READ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REQUIREMENT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E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INITIAL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BATTLEFIEL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64440"/>
            <a:ext cx="9144000" cy="69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DINESS MANAGEMENT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ttal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 and correlate critical personnel readines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the personnel status of critical combat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ordinate with the battalion S4 to determine combat equipment availability, and synchronize replacement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urrent personnel readiness status and forecast personnel status to support intelligence/logistics preparation of the battle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nd replacement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sign individual, squad, crew, or team replacements IAW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ort critical personnel requirements for individual Soldiers and teams to the division PMC through the brigade S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an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26440"/>
            <a:ext cx="883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ig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 and correlate critical personnel readines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critical combat team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ordinate with the S4 to determine combat equipment availability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 replacement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urrent and projected personnel readiness status to support intelligence/logistics preparation of the -Recommend replacement priorities battle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sign individual, squad, crew, or team replacements IAW the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ort critical personnel requirements to the division P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an and coordinate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520"/>
            <a:ext cx="914400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vi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division's personnel readiness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, consolidate, analyze, and report hasty personnel strength information to the corps P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information on the status of critical combat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ncile differences between manual personnel information and the command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urrent and projected personnel readiness status to support intelligence/logistics preparation of the battle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ombat leader personnel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duct readiness analysis, assess combat capabilities, and identify personnel readiness requirements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intra-division reassignments to meet operation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37:04Z</dcterms:created>
  <dc:creator>Administrator</dc:creator>
  <dc:description/>
  <dc:language>en-US</dc:language>
  <cp:lastModifiedBy>Administrator</cp:lastModifiedBy>
  <dcterms:modified xsi:type="dcterms:W3CDTF">2005-07-07T12:54:21Z</dcterms:modified>
  <cp:revision>4</cp:revision>
  <dc:subject/>
  <dc:title>Slide 1</dc:title>
</cp:coreProperties>
</file>